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059-927D-4278-AD7B-B40EBBDB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1AE-BDF6-4135-9F3E-7ED91CC9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D23-0E4C-4052-9A05-4F9EB9FC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C15-0EAA-4529-A1BC-5031DA8D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D119-FA5A-49F6-B7E1-818424B6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A5D2-F821-4578-9AC9-423F37BE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6A4B-72B6-4CE3-A2EC-EA1E19C6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7A20-474F-42DB-9AE6-8111D45E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7539-9B85-4034-BE19-183ED430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73FA-CE39-4F79-9832-C3998C7F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1A4C-4204-490B-A980-77CFABA2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F84-FCFC-44BA-9F58-C9056F83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C595-AE15-41C3-88FC-267A1F51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004B-4C16-4F49-8725-1855BB17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4175-C120-4F77-A0F1-5A988084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6676-9732-44DC-9AE3-3B92000B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84E0-6F34-4544-8745-76C6B966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39E-7B21-465F-84FB-6DF96F0F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F9B-9CC6-4D1F-8D67-FA1F20A8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C19-CC35-4A63-9477-C7D4BD1B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8E6-0434-42D7-944E-E76A07B4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ABA-E94F-4DCF-9E05-20105588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037-BE58-4E13-BB49-7B309E2B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C8B-29DD-4843-8E08-B29AF196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6C1A-73AA-4D7E-880E-28526685D48A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9194-327E-43F3-9290-8BC63A2BC746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tiling algorith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Learning in feedforward layered networks: the tiling algorithm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33"/>
                </a:solidFill>
                <a:latin typeface="Arial"/>
              </a:rPr>
              <a:t>writed by Marc M</a:t>
            </a:r>
            <a:r>
              <a:rPr b="0" lang="zh-TW" sz="2000" spc="-1" strike="noStrike">
                <a:solidFill>
                  <a:srgbClr val="333333"/>
                </a:solidFill>
                <a:latin typeface="Arial"/>
                <a:ea typeface="Arial"/>
              </a:rPr>
              <a:t>ézard and Jean-Pierre Nad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B830-0721-4D99-90E1-03929B6C47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m for 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ster un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first unit in each lay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cillary un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l the other units in each layer, use to fulfil the faithfulness condition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ithfu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wo input patterns having different output should have different internal representation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FF7-DC75-43B2-B0E4-1914160757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m for 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Theorem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Suppose that all the classes in layer L-1 are faithful, and that the number of errors of the master unit, e</a:t>
            </a:r>
            <a:r>
              <a:rPr b="0" lang="zh-TW" sz="2800" spc="-1" strike="noStrike" baseline="-25000">
                <a:solidFill>
                  <a:srgbClr val="333333"/>
                </a:solidFill>
                <a:latin typeface="Arial"/>
              </a:rPr>
              <a:t>L-1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, is non-zero. Then there exists at least one set of weights </a:t>
            </a:r>
            <a:r>
              <a:rPr b="1" i="1" lang="zh-TW" sz="2800" spc="-1" strike="noStrike">
                <a:solidFill>
                  <a:srgbClr val="333333"/>
                </a:solidFill>
                <a:latin typeface="Arial"/>
              </a:rPr>
              <a:t>w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 connecting the L-1 layer to the master unit such that 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   . Furthermore, one can construct explicitly one such set of weights </a:t>
            </a:r>
            <a:r>
              <a:rPr b="1" i="1" lang="zh-TW" sz="2800" spc="-1" strike="noStrike">
                <a:solidFill>
                  <a:srgbClr val="333333"/>
                </a:solidFill>
                <a:latin typeface="Arial"/>
              </a:rPr>
              <a:t>u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4724280"/>
                <a:ext cx="16765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00F-5590-413B-A7DE-9029F2795A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m for 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Proof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Let 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be the prototypes in layer </a:t>
            </a:r>
            <a:r>
              <a:rPr b="0" i="1" lang="zh-TW" sz="2800" spc="-1" strike="noStrike">
                <a:solidFill>
                  <a:srgbClr val="333333"/>
                </a:solidFill>
                <a:latin typeface="Arial"/>
              </a:rPr>
              <a:t>L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-1.     be the desired output(1 or –1)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If the master unit of the </a:t>
            </a:r>
            <a:r>
              <a:rPr b="0" i="1" lang="zh-TW" sz="2800" spc="-1" strike="noStrike">
                <a:solidFill>
                  <a:srgbClr val="333333"/>
                </a:solidFill>
                <a:latin typeface="Arial"/>
              </a:rPr>
              <a:t>L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th layer is connected to the </a:t>
            </a:r>
            <a:r>
              <a:rPr b="0" i="1" lang="zh-TW" sz="2800" spc="-1" strike="noStrike">
                <a:solidFill>
                  <a:srgbClr val="333333"/>
                </a:solidFill>
                <a:latin typeface="Arial"/>
              </a:rPr>
              <a:t>L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-1th layer with the weight </a:t>
            </a:r>
            <a:r>
              <a:rPr b="1" i="1" lang="zh-TW" sz="2800" spc="-1" strike="noStrike">
                <a:solidFill>
                  <a:srgbClr val="333333"/>
                </a:solidFill>
                <a:latin typeface="Arial"/>
              </a:rPr>
              <a:t>w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(w</a:t>
            </a:r>
            <a:r>
              <a:rPr b="0" lang="zh-TW" sz="2800" spc="-1" strike="noStrike" baseline="-25000">
                <a:solidFill>
                  <a:srgbClr val="333333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 = 1, w</a:t>
            </a:r>
            <a:r>
              <a:rPr b="0" lang="zh-TW" sz="28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 = 0 for j ~= 1), then e</a:t>
            </a:r>
            <a:r>
              <a:rPr b="0" lang="zh-TW" sz="2800" spc="-1" strike="noStrike" baseline="-25000">
                <a:solidFill>
                  <a:srgbClr val="333333"/>
                </a:solidFill>
                <a:latin typeface="Arial"/>
              </a:rPr>
              <a:t>L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=e</a:t>
            </a:r>
            <a:r>
              <a:rPr b="0" lang="zh-TW" sz="2800" spc="-1" strike="noStrike" baseline="-25000">
                <a:solidFill>
                  <a:srgbClr val="333333"/>
                </a:solidFill>
                <a:latin typeface="Arial"/>
              </a:rPr>
              <a:t>L-1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66880" y="2514600"/>
                <a:ext cx="444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924680" y="2362320"/>
                <a:ext cx="55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23E-4DBF-4FD6-9C3B-D912DA7E9D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m for 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et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e one of the patterns for which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, and let </a:t>
            </a: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be u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=1 and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66880" y="1905120"/>
                <a:ext cx="507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33720" y="2438280"/>
                <a:ext cx="1752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33720" y="2895480"/>
                <a:ext cx="2133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λs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895480" y="3581280"/>
                <a:ext cx="55627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λs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bSup>
                        <m:sSubSup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124080" y="5029200"/>
                <a:ext cx="5105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&gt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240-6E92-4590-86DE-51A4761091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m for 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sider other patterns,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 be -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Arial"/>
              </a:rPr>
              <a:t>L-1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, -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Arial"/>
              </a:rPr>
              <a:t>L-1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+2, …, 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Arial"/>
              </a:rPr>
              <a:t>L-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ecause the representations in the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-1 layer are faithful, -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Arial"/>
              </a:rPr>
              <a:t>L-1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can never be obtaine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us one can choos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 the patterns for which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till remain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943600" y="1828800"/>
                <a:ext cx="28861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  <m:sSubSup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391440" y="4800600"/>
                <a:ext cx="13143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638680" y="4419720"/>
                <a:ext cx="23623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760920" y="5334120"/>
                <a:ext cx="1719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1E9-4904-4E03-BF04-6459675058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m for 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nce u is one particular solution which, if used to define the master unit of layer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, will giv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14600" y="3352680"/>
                <a:ext cx="4952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545-9516-469D-AA89-BCCB336D30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 the master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sing ‘pocket algorithm’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the particular set </a:t>
            </a:r>
            <a:r>
              <a:rPr b="1" i="1" lang="en-US" sz="3200" spc="-1" strike="noStrike">
                <a:solidFill>
                  <a:srgbClr val="333333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of the previous section is taken as initial set in the pocket algorithm, the output set </a:t>
            </a:r>
            <a:r>
              <a:rPr b="1" i="1" lang="en-US" sz="3200" spc="-1" strike="noStrike">
                <a:solidFill>
                  <a:srgbClr val="333333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will always satisfy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419720" y="4114800"/>
                <a:ext cx="2209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2CD-CD7E-4F51-A8C6-B57C62A85C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the ancillary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57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master unit is not equal to the desired output unit means that  at least one of the two classes is unfaithful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 pick one unfaithful class and add a new unit to learn the mapping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r the patterns 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elonging to this class onl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peat above process until all classes are faithful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086600" y="4038480"/>
                <a:ext cx="167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1D5-C5B2-4617-B5B4-789E8492DB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haustive learning (use the full set of the 2</a:t>
            </a:r>
            <a:r>
              <a:rPr b="0" lang="en-US" sz="32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pattern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rity tas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andom Boolean fun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eneraliz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Quality of converg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347-2A71-4AB1-87A0-B5CBA52D36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ity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 the parity task for N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oolean units the output should be 1 of the number of units in state +1 is even, and –1 otherwis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A41-58D7-465E-9AD7-1475FF1F3C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tiling algorith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mul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cluding remark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31B-4A18-47B4-8BC3-6E0B8945AA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ity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19320" y="1828800"/>
          <a:ext cx="7696080" cy="4627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838080"/>
                <a:gridCol w="838080"/>
                <a:gridCol w="914400"/>
                <a:gridCol w="838440"/>
                <a:gridCol w="838080"/>
                <a:gridCol w="838080"/>
              </a:tblGrid>
              <a:tr h="5515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idden layer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reshold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upling from the input layer to the hidden unit 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5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3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3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5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FF6-1780-46D2-B50B-D3F80B1AA2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ity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utput un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2793960"/>
          <a:ext cx="7239240" cy="1284480"/>
        </p:xfrm>
        <a:graphic>
          <a:graphicData uri="http://schemas.openxmlformats.org/drawingml/2006/table">
            <a:tbl>
              <a:tblPr/>
              <a:tblGrid>
                <a:gridCol w="1524240"/>
                <a:gridCol w="990360"/>
                <a:gridCol w="990720"/>
                <a:gridCol w="914400"/>
                <a:gridCol w="990720"/>
                <a:gridCol w="990360"/>
                <a:gridCol w="83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reshold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uplings from the hidden layer to the output unit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+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2E3-75BA-4837-84B8-B5C9857511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Boolea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random Boolean function is obtained by drawing at random the output (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±1 with equal probability) for each input configura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The numbers of layers and of hidden units increase rapidly with N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A41-C254-46D3-A006-82A44B3DF8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number of training patterns is smaller than 2</a:t>
            </a:r>
            <a:r>
              <a:rPr b="0" lang="en-US" sz="32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N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input neurons are organized in a one-dimensional chain, and the problem is to find out whether the number of domain walls is greater or smaller than th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6EF-D08A-499D-BA64-15018E3196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omain wal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presence of two neighboring neurons pointing in opposite direc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the average of domain walls are three in training patterns, the problem is harder than other numb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8BA-85E8-4937-A7ED-AF312ED7C8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924680" cy="617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CA1-AECF-4418-B8AA-B57CA562BA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of 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To quantify the quality of convergence one might think of at least two paramet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e</a:t>
            </a:r>
            <a:r>
              <a:rPr b="0" lang="zh-TW" sz="2800" spc="-1" strike="noStrike" baseline="-25000">
                <a:solidFill>
                  <a:srgbClr val="333333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zh-TW" sz="2800" spc="-1" strike="noStrike" baseline="-25000">
                <a:solidFill>
                  <a:srgbClr val="333333"/>
                </a:solidFill>
                <a:latin typeface="Arial"/>
              </a:rPr>
              <a:t>L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 : the number of distinct internal representations in each layer </a:t>
            </a:r>
            <a:r>
              <a:rPr b="0" i="1" lang="zh-TW" sz="2800" spc="-1" strike="noStrike">
                <a:solidFill>
                  <a:srgbClr val="333333"/>
                </a:solidFill>
                <a:latin typeface="Arial"/>
              </a:rPr>
              <a:t>L</a:t>
            </a:r>
            <a:r>
              <a:rPr b="0" lang="zh-TW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3C5-8C61-4AB2-AF5C-6191A44B98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2" descr=""/>
          <p:cNvPicPr/>
          <p:nvPr/>
        </p:nvPicPr>
        <p:blipFill>
          <a:blip r:embed="rId1"/>
          <a:stretch/>
        </p:blipFill>
        <p:spPr>
          <a:xfrm>
            <a:off x="1447920" y="361800"/>
            <a:ext cx="7467480" cy="649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90C-85D6-477F-A27B-FFB4B2C76B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re is a lot of freedom in the choice of the unfaithful classes to be learn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ow to choose the maximum number of iterations which are allowed before one decides hat the perceptron algorithm has not converged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9DE-8DDF-47ED-84B3-99702345EF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sented a new strategy for building a feedforward layered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dentified some possible roles of the hidden units: the master units and the ancillary uni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tinuous inputs and binary outpu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flicting da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re than one output uni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53D-E80A-4120-9521-408A169179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feedforward layered syste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drawbacks of back propag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structure of the network has to be guesse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error is not guaranteed to converge to an absolute minimum with zero erro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ts are added like tiles whenever they are neede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327-8772-40CE-8CB7-F78CFA7FA2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3356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3" name="t1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7391160" cy="31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864-12D9-4F07-8AC3-3302CC7834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l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asic notions and not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orem for converg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eneration the master un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uilding the ancillary units: divide and conqu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CD3-D338-4AB5-BB78-4266189A95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tions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We consider layered nets, made of binary units which can be in a plus or minus stat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A unit  </a:t>
            </a:r>
            <a:r>
              <a:rPr b="0" i="1" lang="zh-TW" sz="3200" spc="-1" strike="noStrike">
                <a:solidFill>
                  <a:srgbClr val="333333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 in the </a:t>
            </a:r>
            <a:r>
              <a:rPr b="0" i="1" lang="zh-TW" sz="3200" spc="-1" strike="noStrike">
                <a:solidFill>
                  <a:srgbClr val="333333"/>
                </a:solidFill>
                <a:latin typeface="Arial"/>
              </a:rPr>
              <a:t>L</a:t>
            </a: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th layer is connected to the N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Arial"/>
              </a:rPr>
              <a:t>L-1</a:t>
            </a: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 units and has state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43200" y="4800600"/>
                <a:ext cx="45720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3D8-5B90-4E46-A02A-DA4F05D739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tions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r a given set of 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333333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(distinct) pattern of 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N</a:t>
            </a:r>
            <a:r>
              <a:rPr b="0" i="1" lang="en-US" sz="3200" spc="-1" strike="noStrike" baseline="-25000">
                <a:solidFill>
                  <a:srgbClr val="333333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inary units, we want to learn a given mapping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(1 -1 1 1 -1 </a:t>
            </a:r>
            <a:r>
              <a:rPr b="0" lang="en-US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-1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81280" y="2971800"/>
                <a:ext cx="15940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2CA-0A0A-4A89-B06B-7FB4DE3AA6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m for 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To each input pattern </a:t>
            </a: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  (1 -1 1 1 -1 ) there corresponds a set of values of the neurons in the </a:t>
            </a:r>
            <a:r>
              <a:rPr b="0" i="1" lang="zh-TW" sz="3200" spc="-1" strike="noStrike">
                <a:solidFill>
                  <a:srgbClr val="333333"/>
                </a:solidFill>
                <a:latin typeface="Arial"/>
              </a:rPr>
              <a:t>L</a:t>
            </a: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th layer as the </a:t>
            </a:r>
            <a:r>
              <a:rPr b="0" i="1" lang="zh-TW" sz="3200" spc="-1" strike="noStrike">
                <a:solidFill>
                  <a:srgbClr val="3333ff"/>
                </a:solidFill>
                <a:latin typeface="Arial"/>
              </a:rPr>
              <a:t>internal representation</a:t>
            </a: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 of pattern   </a:t>
            </a: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in the layer </a:t>
            </a:r>
            <a:r>
              <a:rPr b="0" i="1" lang="zh-TW" sz="3200" spc="-1" strike="noStrike">
                <a:solidFill>
                  <a:srgbClr val="333333"/>
                </a:solidFill>
                <a:latin typeface="Arial"/>
              </a:rPr>
              <a:t>L</a:t>
            </a:r>
            <a:r>
              <a:rPr b="0" lang="zh-TW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62720" y="1981080"/>
                <a:ext cx="541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248520" y="3505320"/>
                <a:ext cx="54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BB6-8057-458F-8C08-B64E8DD662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m for 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 say that two patterns belong to the same class (for the layer L) if they have the same internal representation, which we call the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prototype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of the clas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problem becomes to map these prototypes onto the desired outpu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060-9563-4CE9-A583-B60C925C35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07:43:31Z</dcterms:created>
  <dc:creator>hera</dc:creator>
  <dc:description/>
  <dc:language>en-US</dc:language>
  <cp:lastModifiedBy>hera</cp:lastModifiedBy>
  <dcterms:modified xsi:type="dcterms:W3CDTF">2001-08-07T16:24:47Z</dcterms:modified>
  <cp:revision>59</cp:revision>
  <dc:subject/>
  <dc:title>The tiling algorithm</dc:title>
</cp:coreProperties>
</file>